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113-D1C9-4F86-BBDF-911EC760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7C4-BBCF-458E-8898-01A21E3E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8EBA-98EC-474B-94EF-B53D4D0C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418-9EAB-4654-B030-86B4F7307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470-7AE8-45CE-9E2C-51C4889B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F4C2-835F-496E-B164-5F5B6AC5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6D23-F73D-4627-AE06-3CAD19C7E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3B0-61F1-41B6-BAD7-62FE3D9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60A-1F80-4B02-93C5-5AC8ADF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E9A-7F18-4CE0-ADCE-1D99BB1D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E66-83E3-430D-B975-0D4B461B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ADC-FC93-45E1-AD7A-4B17A0D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0D3-043B-403E-AF32-AEBDB21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996-1DCA-40B7-96E3-F797A30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E36-4618-4D15-860B-1ACA35A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18E-AAB5-472C-9BB9-B6164C5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3CB-8197-40F5-AA01-CA22512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A62-200F-4C8B-8222-19E49E1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A4F-ABD6-4890-B2DF-9431890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3E0F-F8A4-43E6-8656-93DA08BF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Water Cycle and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and water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similarities and differences between the water and carbon cy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5320" y="6854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The water cycle has places where water is stored (reservoirs), processes the move water between reservoirs (fluxes), and varying amounts of time that water remains in each reservoir (residence 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648320" y="547524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aps.grida.no/go/graphic/world_s_water_cycle_schematic_and_residence_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03_water_cycle_large.jpg"/>
          <p:cNvPicPr/>
          <p:nvPr/>
        </p:nvPicPr>
        <p:blipFill>
          <a:blip r:embed="rId1"/>
          <a:stretch/>
        </p:blipFill>
        <p:spPr>
          <a:xfrm>
            <a:off x="0" y="0"/>
            <a:ext cx="4383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800240" y="-1526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6324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inciple, identify corresponding processes that occur in the water cycle and carbon cycle. Do this with your work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320" y="3505320"/>
          <a:ext cx="8991360" cy="3365280"/>
        </p:xfrm>
        <a:graphic>
          <a:graphicData uri="http://schemas.openxmlformats.org/drawingml/2006/table">
            <a:tbl>
              <a:tblPr/>
              <a:tblGrid>
                <a:gridCol w="3030480"/>
                <a:gridCol w="2981160"/>
                <a:gridCol w="2979720"/>
              </a:tblGrid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arbon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ravitational, Chemical, Thermal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6" descr="carbon_cycle2.jpg"/>
          <p:cNvPicPr/>
          <p:nvPr/>
        </p:nvPicPr>
        <p:blipFill>
          <a:blip r:embed="rId1"/>
          <a:stretch/>
        </p:blipFill>
        <p:spPr>
          <a:xfrm>
            <a:off x="6483240" y="76320"/>
            <a:ext cx="2660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0-12-21T18:31:24Z</dcterms:modified>
  <cp:revision>302</cp:revision>
  <dc:subject/>
  <dc:title>PowerPoint Presentation</dc:title>
</cp:coreProperties>
</file>